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AC17-1B8F-41D0-9160-D349CCF6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151A-346D-4A37-9336-E5F85F20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AA3-61BE-4967-99F7-4A2D0943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B318-BF32-428A-BC8D-0AE8FA47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2E4A-5913-4BEC-A736-169C4151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8B01-04A4-4663-BED5-145A06FE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5170-710E-41EA-BB20-604167E2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52EC-0623-4252-A624-CB2D1FB7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1525-84B7-49EC-8280-32C12DD4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DDF3-63BE-4A4E-95C6-6EA1A1E0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8CB2-1007-4726-B00E-76C0F349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36E1-20AA-4AD5-8A20-3014FEB6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B82D-7E9A-4311-BC3F-9E1FF126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C48E-553D-44FA-ACC1-95B25AD3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2A0B-36DF-4923-A1AF-9FDC3721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2F07-6AC1-4462-8FAD-DA3A1A3C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A3A1-0691-4C90-9E80-414A1B21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C6F-BA3A-484A-93BF-43F2CCE1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1EB8-C291-49D0-BBF4-C127CF0F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150-C226-4DBD-9410-11ECC88A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41C-594F-4A64-89A5-3E283337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F5A2-FC01-4575-B882-07360B82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7136-7EAC-44E1-80D2-D6E576F4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EEF9-3E41-4145-A204-D5E43F54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6E65-BC52-4A07-9466-52E8FD3D002F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3002-62A4-417F-BFAF-A1996993B485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23640" y="1557000"/>
            <a:ext cx="6048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Computermathemati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859280" y="4221000"/>
            <a:ext cx="3168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ra Meill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00027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190 884 40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0000" y="29242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336666"/>
                </a:solidFill>
                <a:latin typeface="Arial"/>
              </a:rPr>
              <a:t>Franz Embacher, SS 2003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98560" y="549360"/>
          <a:ext cx="7226280" cy="56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8560" y="549360"/>
                    <a:ext cx="722628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EAB-AC4A-4BB1-AF3B-54D8EF8AE8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898560" y="549360"/>
          <a:ext cx="7240680" cy="56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8560" y="549360"/>
                    <a:ext cx="724068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063-3397-457C-8E76-7D1AC2972184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as Projek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6000" spc="-1" strike="noStrike">
                <a:solidFill>
                  <a:srgbClr val="006666"/>
                </a:solidFill>
                <a:latin typeface="Arial"/>
              </a:rPr>
              <a:t>MatheTrain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500" spc="-1" strike="noStrike">
                <a:solidFill>
                  <a:srgbClr val="000000"/>
                </a:solidFill>
                <a:latin typeface="Arial"/>
              </a:rPr>
              <a:t>Programmiersprache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3500" spc="-1" strike="noStrike">
                <a:solidFill>
                  <a:srgbClr val="000000"/>
                </a:solidFill>
                <a:latin typeface="Arial"/>
              </a:rPr>
              <a:t>DELPHI 6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500" spc="-1" strike="noStrike">
                <a:solidFill>
                  <a:srgbClr val="000000"/>
                </a:solidFill>
                <a:latin typeface="Arial"/>
              </a:rPr>
              <a:t>(Objektorientierte Sprache mit graphischer Benutzeroberfläche – basierend auf PASCA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436-2D2B-4F45-94EE-B48FE694F7E4}" type="slidenum">
              <a:t>2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68421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Arial"/>
              </a:rPr>
              <a:t>Beschreibung / Funktion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39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r Rechentrainer bietet alle Grundrechnungsarten an, wobei die Rechnungen in drei verschiedenen Schwierigkeitsgraden zur Verfügung stehe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e Schwierigkeitsgrade unterscheiden sich durch die immer kürzer werdende Zeit, in der man das Ergebnis der Rechnung eingeben mus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i einer Falscheingabe wird das richtige Ergebnis angezeig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0C0-82E6-4DFD-A211-12EC82804A5C}" type="slidenum">
              <a:t>3</a:t>
            </a:fld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640" y="2205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000000"/>
                </a:solidFill>
                <a:latin typeface="Arial"/>
              </a:rPr>
              <a:t>Das Programm zählt mit, wie viele Rechnungen bereits gerechnet wurden und gibt den Prozentsatz an, welche davon richtig oder falsch beantwortet wurde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000000"/>
                </a:solidFill>
                <a:latin typeface="Arial"/>
              </a:rPr>
              <a:t>Als zusätzliche Funktion soll der MatheTrainer noch das Volumen und die Oberfläche (die Raumdiagonale e – falls möglich) von dreidimensionalen Körpern (Quader, Pyramide, Kegel, Zylinder) berechnen könne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73AB-94FC-4B11-BAD7-8F6FF3825CDE}" type="slidenum">
              <a:t>4</a:t>
            </a:fld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Arial"/>
              </a:rPr>
              <a:t>Bedienu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2147400"/>
            <a:ext cx="7994880" cy="38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000000"/>
                </a:solidFill>
                <a:latin typeface="Arial"/>
              </a:rPr>
              <a:t>Die programmierte Benutzeroberfläche besteht aus vier Registerkarte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000000"/>
                </a:solidFill>
                <a:latin typeface="Arial"/>
              </a:rPr>
              <a:t>Jede Registerkarte beinhaltet eine der Anwendungen dieses Program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000000"/>
                </a:solidFill>
                <a:latin typeface="Arial"/>
              </a:rPr>
              <a:t>Wenn das .exe-File des Programms, das durch kompilieren des Quellcodes entsteht, vorliegt, kann es auf jeder Computerplattform gestartet und ausgeführt werde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169B-5FEE-4B1C-8DE2-3F87D24E684D}" type="slidenum">
              <a:t>5</a:t>
            </a:fld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2920" y="190440"/>
            <a:ext cx="7131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200" spc="-1" strike="noStrike">
                <a:solidFill>
                  <a:srgbClr val="000000"/>
                </a:solidFill>
                <a:latin typeface="Arial"/>
              </a:rPr>
              <a:t>Screensho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994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folgenden Abbildungen des Programms zeigen die Funktionen der einzelnen Registerkar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hen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erberechn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amidenberechn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gelberechn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ylinderberechn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C4E-D2C0-4D7F-9F87-0FE5EB31F024}" type="slidenum">
              <a:t>6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childTnLst>
                                    <p:set>
                                      <p:cBhvr>
                                        <p:cTn id="119" dur="1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900000" y="549360"/>
          <a:ext cx="7269120" cy="56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49360"/>
                    <a:ext cx="726912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052-E858-4ED0-80B9-89605F003C0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898560" y="549360"/>
          <a:ext cx="7219800" cy="56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8560" y="549360"/>
                    <a:ext cx="721980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531-7573-40D2-A3EC-07CB18E18C0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898560" y="549360"/>
          <a:ext cx="7226280" cy="56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8560" y="549360"/>
                    <a:ext cx="7226280" cy="56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884F-5AC0-42E8-BAB0-F6E13260026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23:13:55Z</dcterms:created>
  <dc:creator>Nora M.</dc:creator>
  <dc:description/>
  <dc:language>en-US</dc:language>
  <cp:lastModifiedBy>Nora</cp:lastModifiedBy>
  <dcterms:modified xsi:type="dcterms:W3CDTF">2003-06-16T10:51:32Z</dcterms:modified>
  <cp:revision>59</cp:revision>
  <dc:subject/>
  <dc:title>Interdisziplinäres Praktikum  Nora Meiller 0000279         </dc:title>
</cp:coreProperties>
</file>